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jpeg" ContentType="image/jpeg"/>
  <Override PartName="/ppt/media/image17.wmf" ContentType="image/x-wmf"/>
  <Override PartName="/ppt/media/image16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4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3.png" ContentType="image/png"/>
  <Override PartName="/ppt/media/image12.jpeg" ContentType="image/jpe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7290-8479-4DA1-A0D3-0B77399A1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A0E3-3E0C-4105-9D45-43CE02450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5D4C-3F11-49A4-852D-EF135954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6A96-F05E-4D6D-B837-D325D431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E2EA-D80D-43E9-A8C6-35F7C0E5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75E4-D6C1-4106-885A-A846255E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28A4-8E19-47BB-8B45-249EB54B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9EAE-07BD-43FC-8CE4-93334E17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F1FD-C771-4AD9-92EA-8FD6961A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8DE4-40CB-47CE-8DE4-AC0115EA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D8A2-F1CD-4E53-9737-65BF617D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9422-7463-4EC8-AF83-AE888831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B0EB-7430-435A-94DB-1D82B3E1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D7D0-3558-4216-A6E9-C51338C0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753D-81E3-4AE8-B61F-914561FC6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8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9520"/>
            <a:ext cx="3511440" cy="40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Central Asi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2743200" y="378000"/>
            <a:ext cx="4651200" cy="768240"/>
            <a:chOff x="2743200" y="378000"/>
            <a:chExt cx="4651200" cy="768240"/>
          </a:xfrm>
        </p:grpSpPr>
        <p:pic>
          <p:nvPicPr>
            <p:cNvPr id="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651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43200" y="380880"/>
              <a:ext cx="464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Southeast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Documents and Settings\cstocke\Local Settings\Temporary Internet Files\Content.IE5\CHEN8LIR\MCj03978360000[1].wmf"/>
          <p:cNvPicPr/>
          <p:nvPr/>
        </p:nvPicPr>
        <p:blipFill>
          <a:blip r:embed="rId4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2"/>
          <p:cNvGrpSpPr/>
          <p:nvPr/>
        </p:nvGrpSpPr>
        <p:grpSpPr>
          <a:xfrm>
            <a:off x="2743200" y="378000"/>
            <a:ext cx="4956120" cy="768240"/>
            <a:chOff x="2743200" y="378000"/>
            <a:chExt cx="4956120" cy="76824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9561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380880"/>
              <a:ext cx="4952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Southeast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43200" y="378000"/>
            <a:ext cx="4956120" cy="768240"/>
            <a:chOff x="2743200" y="378000"/>
            <a:chExt cx="4956120" cy="768240"/>
          </a:xfrm>
        </p:grpSpPr>
        <p:pic>
          <p:nvPicPr>
            <p:cNvPr id="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9561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4952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Southeast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9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" descr="C:\Documents and Settings\cstocke\Local Settings\Temporary Internet Files\Content.IE5\AZWRAVGT\MCj03978380000[1].wmf"/>
          <p:cNvPicPr/>
          <p:nvPr/>
        </p:nvPicPr>
        <p:blipFill>
          <a:blip r:embed="rId3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2"/>
          <p:cNvGrpSpPr/>
          <p:nvPr/>
        </p:nvGrpSpPr>
        <p:grpSpPr>
          <a:xfrm>
            <a:off x="2743200" y="378000"/>
            <a:ext cx="4724280" cy="768240"/>
            <a:chOff x="2743200" y="378000"/>
            <a:chExt cx="4724280" cy="768240"/>
          </a:xfrm>
        </p:grpSpPr>
        <p:pic>
          <p:nvPicPr>
            <p:cNvPr id="100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7242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380880"/>
              <a:ext cx="4724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Southeast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0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andy Stocker</cp:lastModifiedBy>
  <dcterms:modified xsi:type="dcterms:W3CDTF">2011-08-09T15:15:57Z</dcterms:modified>
  <cp:revision>119</cp:revision>
  <dc:subject/>
  <dc:title>Museum of World Stuff</dc:title>
</cp:coreProperties>
</file>